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D70-1E37-4546-97F7-3B4F91F1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AA5-CAC7-4A9F-ABEC-CC3C82FE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FB3-5248-41CB-92C0-402890C9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D0C-33D3-48FF-B1E2-5FEAE252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55D4-D6A1-4FC2-BF23-22D09A35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FDF-B6DB-421B-9888-3690765B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F10-6705-4264-92CF-AB0C6126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5CEA-E1CF-4E0A-8F98-F79E9C7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79C-5BD5-4E11-9AD7-651F502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6A95-A42A-4510-8306-183B8A3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881-B9E1-4A44-8A14-299EEF8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9BC-A626-424E-ADDE-3C4B3BDD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DF79-C2DE-4DC0-8E1B-0E163A6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FCC0-9B0B-409B-B043-1323012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7EA5-A516-4CAC-A1AB-E254FA8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0B8-B145-4DDA-B087-9A9880DB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1EB5-28FA-4A78-BC7C-BEE81C9C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A0E-1C77-46DB-8440-D742BB1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C1F-0B43-45CF-9B43-4BF1CF5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BD2-59A0-44CF-A446-E78E922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435-F931-4B35-9EE7-BFAB87F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831-CEBC-4EC5-AA4F-996FA07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33A-C203-47B8-B4D3-EBEE9EB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888-B0D7-440A-B08C-6CD2AE5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827-6743-417B-8CAF-0DA7515ED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CE0-779B-4C48-A2DB-07EB3A029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4.xml"/><Relationship Id="rId8" Type="http://schemas.openxmlformats.org/officeDocument/2006/relationships/slide" Target="slide38.xml"/><Relationship Id="rId9" Type="http://schemas.openxmlformats.org/officeDocument/2006/relationships/slide" Target="slide26.xml"/><Relationship Id="rId10" Type="http://schemas.openxmlformats.org/officeDocument/2006/relationships/slide" Target="slide50.xml"/><Relationship Id="rId11" Type="http://schemas.openxmlformats.org/officeDocument/2006/relationships/slide" Target="slide16.xml"/><Relationship Id="rId12" Type="http://schemas.openxmlformats.org/officeDocument/2006/relationships/slide" Target="slide28.xml"/><Relationship Id="rId13" Type="http://schemas.openxmlformats.org/officeDocument/2006/relationships/slide" Target="slide40.xml"/><Relationship Id="rId14" Type="http://schemas.openxmlformats.org/officeDocument/2006/relationships/slide" Target="slide52.xml"/><Relationship Id="rId15" Type="http://schemas.openxmlformats.org/officeDocument/2006/relationships/slide" Target="slide18.xml"/><Relationship Id="rId16" Type="http://schemas.openxmlformats.org/officeDocument/2006/relationships/slide" Target="slide30.xml"/><Relationship Id="rId17" Type="http://schemas.openxmlformats.org/officeDocument/2006/relationships/slide" Target="slide42.xml"/><Relationship Id="rId18" Type="http://schemas.openxmlformats.org/officeDocument/2006/relationships/slide" Target="slide54.xml"/><Relationship Id="rId19" Type="http://schemas.openxmlformats.org/officeDocument/2006/relationships/slide" Target="slide20.xml"/><Relationship Id="rId20" Type="http://schemas.openxmlformats.org/officeDocument/2006/relationships/slide" Target="slide32.xml"/><Relationship Id="rId21" Type="http://schemas.openxmlformats.org/officeDocument/2006/relationships/slide" Target="slide44.xml"/><Relationship Id="rId22" Type="http://schemas.openxmlformats.org/officeDocument/2006/relationships/slide" Target="slide56.xml"/><Relationship Id="rId23" Type="http://schemas.openxmlformats.org/officeDocument/2006/relationships/slide" Target="slide22.xml"/><Relationship Id="rId24" Type="http://schemas.openxmlformats.org/officeDocument/2006/relationships/slide" Target="slide34.xml"/><Relationship Id="rId25" Type="http://schemas.openxmlformats.org/officeDocument/2006/relationships/slide" Target="slide46.xml"/><Relationship Id="rId26" Type="http://schemas.openxmlformats.org/officeDocument/2006/relationships/slide" Target="slide58.xml"/><Relationship Id="rId27" Type="http://schemas.openxmlformats.org/officeDocument/2006/relationships/image" Target="../media/image2.jpeg"/><Relationship Id="rId28" Type="http://schemas.openxmlformats.org/officeDocument/2006/relationships/image" Target="../media/image3.jpeg"/><Relationship Id="rId29" Type="http://schemas.openxmlformats.org/officeDocument/2006/relationships/image" Target="../media/image4.png"/><Relationship Id="rId30" Type="http://schemas.openxmlformats.org/officeDocument/2006/relationships/image" Target="../media/image5.jpeg"/><Relationship Id="rId31" Type="http://schemas.openxmlformats.org/officeDocument/2006/relationships/image" Target="../media/image6.jpeg"/><Relationship Id="rId32" Type="http://schemas.openxmlformats.org/officeDocument/2006/relationships/audio" Target="../media/jeop.wav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11280"/>
          <a:ext cx="768168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11280"/>
                    <a:ext cx="76816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03680" y="1620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7240" y="17524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167652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884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62485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696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876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84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7"/>
          <a:stretch/>
        </p:blipFill>
        <p:spPr>
          <a:xfrm>
            <a:off x="838080" y="1295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8"/>
          <a:stretch/>
        </p:blipFill>
        <p:spPr>
          <a:xfrm>
            <a:off x="236232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9"/>
          <a:stretch/>
        </p:blipFill>
        <p:spPr>
          <a:xfrm>
            <a:off x="388620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0"/>
          <a:stretch/>
        </p:blipFill>
        <p:spPr>
          <a:xfrm>
            <a:off x="533412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1"/>
          <a:stretch/>
        </p:blipFill>
        <p:spPr>
          <a:xfrm>
            <a:off x="6858000" y="1295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c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26040" y="3200400"/>
            <a:ext cx="66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eligious image used for wor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often in hom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tyle of the pi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 looks f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Child is hovering and look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bric is 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3240" y="3168720"/>
            <a:ext cx="59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1080" y="3168720"/>
            <a:ext cx="27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Ke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 Rho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3600" y="3168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23840" y="3168720"/>
            <a:ext cx="47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te 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rly 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2520" y="3168720"/>
            <a:ext cx="36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“Era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2520" y="3168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Christi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3240" y="316872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9216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91800" y="3168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ura on Vell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2160" y="3168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reated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1440" y="316872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ks in Ire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Chi Rho stan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nogram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9360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91080" y="31687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 Shepherd Mosa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9288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92520" y="316872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oleum of Galla Plaidia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venna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llon Mado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92520" y="3168720"/>
            <a:ext cx="35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“era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92520" y="3168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Christi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92160" y="316872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90720" y="3168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9252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91080" y="31687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a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un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Circular opening above a door or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600" y="31687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gia Soph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3600" y="3168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288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800" y="316872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anbul, Turk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252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0720" y="31687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32-53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800" y="31687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chit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800" y="316872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mius of Tralle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odorus of Mile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2880" y="316872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tyle is the church 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2160" y="316872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ntral Plan Churc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zant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ignficance of the four t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minarets added when the church was used as a mos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6560" y="316872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3600" y="31687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2880" y="31687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sa Cathedral Comple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2160" y="316872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eriod is it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89072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63-117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92160" y="316872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three par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451880" y="320040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ll Tower, Baptistery,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89252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91800" y="316872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6960" y="312408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empire was this piece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ignfic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esque features include: crossing dome and arcade gall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ptistery was redecorated in the gothic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few churches to feature a l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2160" y="316872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zant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216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800" y="31687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 Tempura on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3-25T16:44:42Z</dcterms:modified>
  <cp:revision>18</cp:revision>
  <dc:subject/>
  <dc:title>Jeopardy</dc:title>
</cp:coreProperties>
</file>